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03707"/>
        <c:axId val="74365067"/>
      </c:barChart>
      <c:catAx>
        <c:axId val="18403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65067"/>
        <c:crosses val="autoZero"/>
        <c:auto val="1"/>
        <c:lblAlgn val="ctr"/>
        <c:lblOffset val="100"/>
        <c:noMultiLvlLbl val="0"/>
      </c:catAx>
      <c:valAx>
        <c:axId val="74365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03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B76-053B-496A-A7D7-65D978A4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E2D-A1C8-466C-9C33-F0D423C8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0A2-0C08-4794-99F8-E722DF7C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208-0F96-4683-9705-A63A6DFC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78A-2040-4DA7-97BC-3B886399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593-67BD-498B-B5CF-C5FBBE9F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BE1-64CF-4EAE-8289-1FB7AABB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2DE-8C49-4FCB-86BB-CD7092E8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D9B-1CEC-4C31-82E0-2DA5E258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4BA-CD49-4B01-A837-A32EB27D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AE6-32E0-4EFB-B82E-9DCA58DB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9F5-DC42-4DC5-8408-B9A968B5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8CC5F-B0B0-499D-B450-9BD97B747A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