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15764"/>
        <c:axId val="54837355"/>
      </c:barChart>
      <c:catAx>
        <c:axId val="110157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37355"/>
        <c:crosses val="autoZero"/>
        <c:auto val="1"/>
        <c:lblAlgn val="ctr"/>
        <c:lblOffset val="100"/>
        <c:noMultiLvlLbl val="0"/>
      </c:catAx>
      <c:valAx>
        <c:axId val="548373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157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295B-028F-4B6B-AA04-2753B438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C5E1-EA41-448E-8164-6CB58ED1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4072-9FA7-4282-800E-2476B9C76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8A46-147E-4112-B7A1-9674E520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73D8-8D16-44D4-A9AB-BEF8B738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C9DE-5A5C-4154-B9AF-F67C5E3A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1A32-1199-4A2F-98F0-34C5CFA4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CFC5-AF7B-4A4C-8039-98D27BA2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2440-6D63-43A5-A643-4EBF00DC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0794-07DF-4581-8EE4-9BC3C4A9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A986-E606-4F08-84A0-C71DBD1D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CA0F-80AF-4BAD-BA79-2B49FD0E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D72A3-24F1-4988-8E72-E617EC6795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